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4D7-0A7D-49F0-8C82-190BA932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393-04AC-415E-BA27-F195203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212-4845-4557-B555-6165D4A4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163-D80A-4826-800B-59A41FE9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8F14-B1F8-43D6-A05E-F3E773BA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462-4367-4027-B083-ED57A11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556-3519-4DF3-AC45-907D50B8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79BD-2338-4213-82B7-211D3E9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A8A2-E707-4A62-806A-F3451F9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CBE-77FA-4953-9A54-FE1B1CD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8448-1114-401E-B238-6434457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1D3-9181-4D0D-992E-2C26E88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99D9-F0FB-441D-AC9C-C98E2EC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7DC7-01FC-40B9-9493-32DA0C4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84FE-BB95-4F5D-ABC0-AF78C91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A18F-9E7D-4BB6-A418-FE551F6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C853-2A62-487B-955C-E70541DC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2109-3437-496D-80B4-DC7FED23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8731-F310-49C5-BEAE-D580685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7876-377D-45D7-B602-CA633B4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0A4C-1E45-4B45-A06B-198BFC84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54F7-B7E5-411A-8C8A-4878E42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443-30D7-4EE6-AB84-97B45D2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F19E-64C2-4ED8-811A-BC1E713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FDCD-9872-4E1E-878B-9AA0D3A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445F-8D2C-4915-A0A9-F1ADC85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41B5-6170-4185-BEDF-7136338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DD9F-A104-49A6-921F-8397A9B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EA14-8FEA-434D-BB46-D554BC56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BF4B-C6FB-4849-8CA2-07C84F15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2A77-68E4-45C0-8698-BEF836FC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5155-A700-48EF-9383-EE111A0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E741-7573-4513-89E8-C7FF2AD9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11E-C54B-402C-9345-5DC30F69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C33D-D107-4D57-8013-0AAE71E3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39D0-AFB2-42B4-92C3-6C25E2E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5497-D9ED-43F0-81CA-2C4A43D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7A77-15AF-4E1D-BD87-57914DE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D84F-63BB-4B40-94EB-8A77BAF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B726-AE58-4D9B-B3C4-5C2DA6C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9C14-86AF-4014-8D74-C501248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4AFD-AC36-49E4-8AD9-00D4C6C5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76B9-8E0B-4C55-996D-F36B23DD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0649-5357-4EAF-AEAD-D3274F50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8FC-37F5-42CD-B38C-2802522D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B17C-2167-4347-A7FC-C9A811B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F0AE-22BA-465C-96E8-677F72BC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24A7-4090-44A5-B4B7-0029BC0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3EB61-7764-4A6A-9637-A6008CD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BD59-C8DB-499C-9ACC-34ACA82C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4393-4674-4F13-BA0D-6017403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AF32-9A7C-4986-97F6-A8EBF94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5855-AE30-4868-B6C7-E6ACC9E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8E63-8662-4056-A26B-0F0C670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3B4D-C552-42E5-A3B6-642112BD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711-6516-4A3A-834D-AC91908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E176-521A-48D7-8129-31A58B37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9F65-88FD-46DE-B92B-1472004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4345-26E7-42D0-A7D8-0378DEB9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4239-E34A-46A8-9200-AD553A1B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CA12-8918-4594-9254-7C9E1EF9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46AA-31E9-42CA-A624-4D3D8A8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C8D1-CEF0-4AC2-880A-C26DE21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5C20-74FE-4FA7-9BDC-EAA7680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AAFA-ED49-46CA-848D-068B261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836F-BF8C-4879-872E-D18A628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2A9-A875-4242-B335-62A5E8A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0D02-128B-4F34-91BD-FA3D21E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B874-FFCC-4FB9-82FF-5A306639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34D0-EA42-486F-A01F-BEB25B34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8CBE-E579-43E0-B410-12F23308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04B8-B85A-483F-A109-1C0BCB2A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5D71F-6C39-4889-A09D-DAD06CA3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7079-8BD8-4614-B835-D003367B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4364-B2CC-4562-90CC-27FF74F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1567-13D4-406A-8324-3B62EBB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38CFA-5DB6-455D-925B-9FCA3A3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8D9-864A-4517-88FF-98FB937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9637-F556-48C5-9ED4-09138EF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9D69-8D6C-4280-BE0F-2DDF0AB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41E8-B992-48C1-83A6-6A813F2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B080-B882-4EDD-9C93-5A86EB56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ABF4-1179-4B47-8CD1-796CB4F8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347-E26B-4E3C-BA59-67D9633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288-123D-4DDD-AC30-0F3D955C88AD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D2F-E8F5-4687-9603-099B6C62A707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D26B-AE6E-429A-B092-78E5752C4A30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C66-0AC3-4B5B-B238-CD54FEF8E9F5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E52-3702-438C-BD91-23D68588B7CB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DDA-85B6-4280-BFD7-1362F12EA2A9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BE5-0E2E-4968-94CD-0124D1EAD98B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4"/>
          <p:cNvSpPr/>
          <p:nvPr/>
        </p:nvSpPr>
        <p:spPr>
          <a:xfrm>
            <a:off x="1476360" y="40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станайский Государственный университ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А.Байту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Прямоугольник 6" descr=""/>
          <p:cNvPicPr/>
          <p:nvPr/>
        </p:nvPicPr>
        <p:blipFill>
          <a:blip r:embed="rId1"/>
          <a:stretch/>
        </p:blipFill>
        <p:spPr>
          <a:xfrm>
            <a:off x="1700280" y="1249200"/>
            <a:ext cx="6529320" cy="20242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7" descr=""/>
          <p:cNvPicPr/>
          <p:nvPr/>
        </p:nvPicPr>
        <p:blipFill>
          <a:blip r:embed="rId2"/>
          <a:stretch/>
        </p:blipFill>
        <p:spPr>
          <a:xfrm>
            <a:off x="1719360" y="2511360"/>
            <a:ext cx="706428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0"/>
          <p:cNvSpPr/>
          <p:nvPr/>
        </p:nvSpPr>
        <p:spPr>
          <a:xfrm>
            <a:off x="364320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станай,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Биологические свойства возбудителя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) морф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P. muitocida в мазках-отпечатках из крови и органов представляет собой неподвижную, грамотрицательную, короткую, овальной или яйцевидной формы бактерию, эндоспоры не образовывает. Длина составляет 0,4...1,2 мкм, ширина - 0,3...0,4мк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43280" y="285480"/>
            <a:ext cx="45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краска.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стерелл окрашиваются хорошо всеми растворами основных анилиновых красок. Биполярность пастерелл хорошо видна при окраске лефлеровской метиленовой синькой, карбол-фуксином, по Романовскому-Гимзе, Мурамцеву. Капсулу у капсульных вариантов пастерелл можно выявить окраской водным раствором сафранина с подогреванием (способ Ольта). Но наиболее отчетливо ее видно при изготовлении мазков по Бурри с дополнительной окраской по способу Ребирг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plague-cdc4.jpg"/>
          <p:cNvPicPr/>
          <p:nvPr/>
        </p:nvPicPr>
        <p:blipFill>
          <a:blip r:embed="rId1"/>
          <a:stretch/>
        </p:blipFill>
        <p:spPr>
          <a:xfrm>
            <a:off x="1000080" y="0"/>
            <a:ext cx="4000680" cy="31431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1304781321_1.png"/>
          <p:cNvPicPr/>
          <p:nvPr/>
        </p:nvPicPr>
        <p:blipFill>
          <a:blip r:embed="rId2"/>
          <a:stretch/>
        </p:blipFill>
        <p:spPr>
          <a:xfrm>
            <a:off x="1214280" y="3071880"/>
            <a:ext cx="350064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2680" y="213840"/>
            <a:ext cx="66438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б) культуральные свойств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Pasteurella muitocida является факультативным анаэробом, температура ее жизнедеятельности 22-42ºс, оптимум температуры 37-38ºс. Оптимальное значение рН среды 7,2-7,4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3" descr="Pasteurella-multocida-1021205.png"/>
          <p:cNvPicPr/>
          <p:nvPr/>
        </p:nvPicPr>
        <p:blipFill>
          <a:blip r:embed="rId1"/>
          <a:stretch/>
        </p:blipFill>
        <p:spPr>
          <a:xfrm>
            <a:off x="2214720" y="2786040"/>
            <a:ext cx="507204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Рост на жидких питательных средах. 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ПБ в первые сутки роста пастерелл  слегка мутнеет, причем помутнение равномерное. На дне пробирки образуется слизистый осадок, который поднимается при встряхивании в виде косички (муаровые волны). Затем помутнение несколько усиливается, а через 4-8 дней роста бульон в пробирке светлеет, на дне более выраженный слизистый осад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Рост на плотных питательных средах. На МПА: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S-формы образуют мелкие, выпуклые, прозрачные, округлой формы колонии серого цвета. Они в косо проходящем свете флюоресцируют, что связано с капсулообразованием, сильно вирулентны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M-формы - более крупные слизистой консистенции с непрозрачным центром, серовато-белые, с ровными краями, имеют капсулу, средней степени вирулентны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R-формы - шероховатые непрозрачны колонии, капсул не имеют, авирулент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285560" y="8568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МПЖ при посеве уколом пастереллы растут в виде отдельных колоний, а затем беловатого стержня, никаких отростков, а также разжижения желатины не наблюдается, так как эти бактерии лишены протеолитической актив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ост на куриных эмбрионах. Пастереллы могут расти на развивающихся куриных эмбрионах. Картер (1950) даже получил и испытывал эмбрионвакцину против пастерелле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3" descr=""/>
          <p:cNvPicPr/>
          <p:nvPr/>
        </p:nvPicPr>
        <p:blipFill>
          <a:blip r:embed="rId1"/>
          <a:stretch/>
        </p:blipFill>
        <p:spPr>
          <a:xfrm>
            <a:off x="1200240" y="189000"/>
            <a:ext cx="7589880" cy="14572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65413bf515eb9fcf8841b952d5d9b5fd.jpg"/>
          <p:cNvPicPr/>
          <p:nvPr/>
        </p:nvPicPr>
        <p:blipFill>
          <a:blip r:embed="rId2"/>
          <a:stretch/>
        </p:blipFill>
        <p:spPr>
          <a:xfrm>
            <a:off x="1714680" y="1714680"/>
            <a:ext cx="650052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                   </a:t>
            </a: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Пастереллез </a:t>
            </a:r>
            <a:br>
              <a:rPr sz="3900"/>
            </a:b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(геморрагическая септицемия) 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00080" y="1571400"/>
            <a:ext cx="4286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острая инфекционная болезнь, характеризующаяся лихорадкой, общей интоксикацией, воспалением кожи, подкожной клетчатки, артритами, остеомиелитами. Относится к зооноза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4" descr="paster3_l.jpg"/>
          <p:cNvPicPr/>
          <p:nvPr/>
        </p:nvPicPr>
        <p:blipFill>
          <a:blip r:embed="rId1"/>
          <a:stretch/>
        </p:blipFill>
        <p:spPr>
          <a:xfrm>
            <a:off x="5072040" y="1714680"/>
            <a:ext cx="3786120" cy="3719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42960" y="428760"/>
            <a:ext cx="48578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фекционная природа болезни установлена Риволтом( 1877), Бол-лингером в 1878 году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. Пастер выделил чистую культуру возбудителя и сделал первую попытку приготовить убитую вакцину. В честь его в 1910 г. этот микроб был назван пастереллой, а вызываемое им заболевание — пастереллез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pasteur1ce9.gif"/>
          <p:cNvPicPr/>
          <p:nvPr/>
        </p:nvPicPr>
        <p:blipFill>
          <a:blip r:embed="rId1"/>
          <a:stretch/>
        </p:blipFill>
        <p:spPr>
          <a:xfrm>
            <a:off x="5357880" y="714240"/>
            <a:ext cx="35719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астереллы устойчивы в навозе, крови, холодной воде в течение 2...3 нед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трупах —до 4мес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замороженном мясе—в течение 1 год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ямые солнечные лучи убивают их в течение нескольких минут, при температуре 70...90 "С они погибают в течение 5...10 мин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бработка 5%-ным раствором карболовой кислоты обезвреживает пастереллы через 1 мин, 3%-ным раствором — через 2 мин, 5%-ным раствором известкового молока (гидроксид кальция) — через 4...5 мин, 3%-ным горячим раствором (50 °С) гидрокарбоната натрия и 1%-ным раствором хлорной извести — через 3 мин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71360" y="356760"/>
            <a:ext cx="74977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збудитель: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Pasteurella multocida и Pasteurella haemolytica — небольшая, Г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еподвижная и не образующая спор бактерия, располагающаяся изолированно, парами и реже в виде цепоче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Pasteurella_multocida.jpg"/>
          <p:cNvPicPr/>
          <p:nvPr/>
        </p:nvPicPr>
        <p:blipFill>
          <a:blip r:embed="rId1"/>
          <a:stretch/>
        </p:blipFill>
        <p:spPr>
          <a:xfrm>
            <a:off x="2286000" y="3071880"/>
            <a:ext cx="54291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Эпизоотология.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28440" y="1356840"/>
            <a:ext cx="477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приимчивы все виды домашних и диких животных, в том числе птицы и человек.Устойчивы плотоядные и лошад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кубационный период: от нескольких часов до нескольких сут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сточник возбудителя: больные и переболевшие животны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1Cf2qLlHu4.jpg"/>
          <p:cNvPicPr/>
          <p:nvPr/>
        </p:nvPicPr>
        <p:blipFill>
          <a:blip r:embed="rId1"/>
          <a:stretch/>
        </p:blipFill>
        <p:spPr>
          <a:xfrm>
            <a:off x="5595840" y="285840"/>
            <a:ext cx="3262320" cy="28573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4" descr="911210-2.jpg"/>
          <p:cNvPicPr/>
          <p:nvPr/>
        </p:nvPicPr>
        <p:blipFill>
          <a:blip r:embed="rId2"/>
          <a:stretch/>
        </p:blipFill>
        <p:spPr>
          <a:xfrm>
            <a:off x="5643720" y="3357720"/>
            <a:ext cx="32144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Image947.gif"/>
          <p:cNvPicPr/>
          <p:nvPr/>
        </p:nvPicPr>
        <p:blipFill>
          <a:blip r:embed="rId1"/>
          <a:stretch/>
        </p:blipFill>
        <p:spPr>
          <a:xfrm>
            <a:off x="2000160" y="57168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Патогенез и факторы вирулентности: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ражение животных происходит алиментарным и воздушно-капельным путям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будитель размножается и проникает в кровь и лимфу, вызывая септицем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дотоксины и агрессины повреждают стенки сосудов, вызывая массовые кровоизлияния, появляются отеки. Все это приводит к омертвлению ткан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Диагностика пастереллеза.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928800"/>
            <a:ext cx="42865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лабораторию направляют селезенку, печень, почки, пораженные части легких с лимфоузлами и трубчатую кость. Трупы мелких животных отправляют целиком. Для исследования берут материал из паренхиматозных органов, из пораженных легких, лимфоузлы из отечных тканей. Делают мазки-отпечатки и окрашивают по Граму или Романовскому-Гимзе, с целью обнаружения типичных, биполярно окрашенных овоидных палоче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4" descr="4239201411.jpg"/>
          <p:cNvPicPr/>
          <p:nvPr/>
        </p:nvPicPr>
        <p:blipFill>
          <a:blip r:embed="rId1"/>
          <a:stretch/>
        </p:blipFill>
        <p:spPr>
          <a:xfrm>
            <a:off x="5257800" y="1714680"/>
            <a:ext cx="3886200" cy="32144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2357280" y="55720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ажное диагностическое значение имеет микроскопия свежей крови. Проводят бактериологическое исследование и биопро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05:33:22Z</dcterms:created>
  <dc:creator>Admin</dc:creator>
  <dc:description/>
  <dc:language>en-US</dc:language>
  <cp:lastModifiedBy>Ошакбаева</cp:lastModifiedBy>
  <dcterms:modified xsi:type="dcterms:W3CDTF">2013-11-07T13:11:00Z</dcterms:modified>
  <cp:revision>10</cp:revision>
  <dc:subject/>
  <dc:title>Слайд 1</dc:title>
</cp:coreProperties>
</file>